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E17-19F5-45A6-875F-0AB570E8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115-EC78-40BA-8B65-66F42634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730-C508-4DE9-B98C-FD49779D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2D7-300F-40FF-A0B9-E618E942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BD6-D8F8-4D21-9DE1-AA4F0E3E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476-B47C-4684-A851-9B35CE84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D14-61C1-4002-97A1-2EBD4EA5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214-8214-40DA-9D9F-0FB0C585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A77-CB85-47BE-972F-D9F5C8E3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B59-52C0-4CA9-B626-4B2942C6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AFE-9B13-4DA7-954F-FFA2B9CB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FCD7-5E61-4CB8-8E31-2625C2A8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B8B1-FD2A-499A-B828-06E3B0ACE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0280" y="324000"/>
            <a:ext cx="6337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IN THE FRONT 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7920" y="630072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LP OUT OR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7920" y="694836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 COME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60640" y="7667640"/>
            <a:ext cx="28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I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97164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07920" y="630072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LP OUT OR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7920" y="694836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 COME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60640" y="7667640"/>
            <a:ext cx="28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I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07920" y="630072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LP OUT OR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07920" y="694836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LL COME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0280" y="324000"/>
            <a:ext cx="63374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JOIN THE FRONT 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60640" y="7667640"/>
            <a:ext cx="280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cc"/>
                </a:solidFill>
                <a:latin typeface="Arial Black"/>
              </a:rPr>
              <a:t>THIS!</a:t>
            </a:r>
            <a:endParaRPr b="0" lang="en-US" sz="1800" spc="1" strike="noStrike">
              <a:ln w="0">
                <a:noFill/>
              </a:ln>
              <a:solidFill>
                <a:srgbClr val="ff66cc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7920" y="630072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ELP OUT OR 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7920" y="6948360"/>
            <a:ext cx="4680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LL COME 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9000" y="1547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07:39:32Z</dcterms:created>
  <dc:creator>Matt</dc:creator>
  <dc:description/>
  <dc:language>en-US</dc:language>
  <cp:lastModifiedBy>Matt</cp:lastModifiedBy>
  <dcterms:modified xsi:type="dcterms:W3CDTF">2009-03-22T08:08:29Z</dcterms:modified>
  <cp:revision>2</cp:revision>
  <dc:subject/>
  <dc:title>Slide 1</dc:title>
</cp:coreProperties>
</file>